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B835-BFF8-425F-AFA9-383DD21F0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EB00-C202-4FD0-8FB5-CA0FB14A9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9251-21CA-4113-B0AA-782CA20C4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CA21-1477-4F2D-8B4E-CF96F0F2E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5C4D-D34F-4C48-8085-E514FFBE3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6A01-517E-43F9-B0F0-224891002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9775-9915-48D7-AF10-B7032E35C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004A-D4CF-4110-9004-D999B0E1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B9BA-C1C2-4E01-80E4-170E31488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02B0-A93D-4FC3-9F70-33448E11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2F79-9B7F-4831-A92D-731D795D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C08A-C564-403D-8D03-E24D879F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530A1-EF97-4879-B4EF-BFAC727D7E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09480" y="1600200"/>
            <a:ext cx="807732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Tahoma"/>
              </a:rPr>
              <a:t>Astronomie a astrofyzik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(ro</a:t>
            </a:r>
            <a:r>
              <a:rPr b="1" lang="cs-CZ" sz="1600" spc="-1" strike="noStrike">
                <a:solidFill>
                  <a:srgbClr val="ffffff"/>
                </a:solidFill>
                <a:latin typeface="Tahoma"/>
              </a:rPr>
              <a:t>zšířená verz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124080" y="4419720"/>
            <a:ext cx="3276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Michal </a:t>
            </a: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Šv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svanda@asu.cas.c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Tahoma"/>
              </a:rPr>
              <a:t>Jasnosti hvěz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85800" y="1523880"/>
            <a:ext cx="7772400" cy="0"/>
          </a:xfrm>
          <a:prstGeom prst="line">
            <a:avLst/>
          </a:prstGeom>
          <a:ln w="414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Stephan-Boltzmannův zákon (na jednotku plochy) E=</a:t>
            </a:r>
            <a:r>
              <a:rPr b="0" lang="en-GB" sz="2800" spc="-1" strike="noStrike">
                <a:solidFill>
                  <a:srgbClr val="dddddd"/>
                </a:solidFill>
                <a:latin typeface="Symbol"/>
                <a:ea typeface="Symbol"/>
              </a:rPr>
              <a:t></a:t>
            </a: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T</a:t>
            </a:r>
            <a:r>
              <a:rPr b="0" lang="en-GB" sz="2800" spc="-1" strike="noStrike" baseline="30000">
                <a:solidFill>
                  <a:srgbClr val="dddddd"/>
                </a:solidFill>
                <a:latin typeface="Tahom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hvězdné velikosti - 1 - 6, Ptolemaios (2. st. nl, Řeck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Pogsonova rovnice m</a:t>
            </a:r>
            <a:r>
              <a:rPr b="0" lang="en-GB" sz="2800" spc="-1" strike="noStrike" baseline="-25000">
                <a:solidFill>
                  <a:srgbClr val="dddddd"/>
                </a:solidFill>
                <a:latin typeface="Tahoma"/>
              </a:rPr>
              <a:t>1 </a:t>
            </a: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- m</a:t>
            </a:r>
            <a:r>
              <a:rPr b="0" lang="en-GB" sz="2800" spc="-1" strike="noStrike" baseline="-25000">
                <a:solidFill>
                  <a:srgbClr val="dddddd"/>
                </a:solidFill>
                <a:latin typeface="Tahoma"/>
              </a:rPr>
              <a:t>2</a:t>
            </a: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=-2,5 log(I</a:t>
            </a:r>
            <a:r>
              <a:rPr b="0" lang="en-GB" sz="2800" spc="-1" strike="noStrike" baseline="-25000">
                <a:solidFill>
                  <a:srgbClr val="dddddd"/>
                </a:solidFill>
                <a:latin typeface="Tahoma"/>
              </a:rPr>
              <a:t>1</a:t>
            </a: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/I</a:t>
            </a:r>
            <a:r>
              <a:rPr b="0" lang="en-GB" sz="2800" spc="-1" strike="noStrike" baseline="-25000">
                <a:solidFill>
                  <a:srgbClr val="dddddd"/>
                </a:solidFill>
                <a:latin typeface="Tahoma"/>
              </a:rPr>
              <a:t>2</a:t>
            </a: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) – magnituda definována jako m=-2,5 log(I/I</a:t>
            </a:r>
            <a:r>
              <a:rPr b="0" lang="en-GB" sz="2800" spc="-1" strike="noStrike" baseline="-25000">
                <a:solidFill>
                  <a:srgbClr val="dddddd"/>
                </a:solidFill>
                <a:latin typeface="Tahoma"/>
              </a:rPr>
              <a:t>0</a:t>
            </a: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) – jaká je velikost dvojhvězd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modul vzdálenosti m - M=5 log r -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Tahoma"/>
              </a:rPr>
              <a:t>Měření vzdálenost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85800" y="1523880"/>
            <a:ext cx="7772400" cy="0"/>
          </a:xfrm>
          <a:prstGeom prst="line">
            <a:avLst/>
          </a:prstGeom>
          <a:ln w="414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radar, la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paralax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cephei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standardní svíčky (RR Lyr, novy, supernovy, galaxie, kvaza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Tahoma"/>
              </a:rPr>
              <a:t>Současná astronom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685800" y="1523880"/>
            <a:ext cx="7772400" cy="0"/>
          </a:xfrm>
          <a:prstGeom prst="line">
            <a:avLst/>
          </a:prstGeom>
          <a:ln w="414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Slunce, kosmické počas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A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kosmologické mod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velkorozměrová struktura vesmí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modely hvězd - vysoké rozlišení, interakce, rotace, mg. p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temná hmo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Tahoma"/>
              </a:rPr>
              <a:t>Konec pasívního sezení 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85800" y="1523880"/>
            <a:ext cx="7772400" cy="0"/>
          </a:xfrm>
          <a:prstGeom prst="line">
            <a:avLst/>
          </a:prstGeom>
          <a:ln w="414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teď se zapotíte i vy a já si přestanu třepit hub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ddddd"/>
                </a:solidFill>
                <a:latin typeface="Tahoma"/>
              </a:rPr>
              <a:t>ZAČÍNÁ ZNALOSTNÍ KVÍ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ddddd"/>
                </a:solidFill>
                <a:latin typeface="Tahoma"/>
              </a:rPr>
              <a:t>OTÁZKA: </a:t>
            </a:r>
            <a:r>
              <a:rPr b="1" lang="en-GB" sz="4400" spc="-1" strike="noStrike">
                <a:solidFill>
                  <a:srgbClr val="dddddd"/>
                </a:solidFill>
                <a:latin typeface="Tahoma"/>
              </a:rPr>
              <a:t>CO TO J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Tahoma"/>
              </a:rPr>
              <a:t>Zatmění Slu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85800" y="1523880"/>
            <a:ext cx="7772400" cy="0"/>
          </a:xfrm>
          <a:prstGeom prst="line">
            <a:avLst/>
          </a:prstGeom>
          <a:ln w="414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85800" y="1600200"/>
            <a:ext cx="2666880" cy="21556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3429000" y="1600200"/>
            <a:ext cx="2362320" cy="2141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5715000" y="1676520"/>
            <a:ext cx="2719440" cy="20127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077080" cy="3086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Tahoma"/>
              </a:rPr>
              <a:t>Zatmění Měsí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685800" y="1523880"/>
            <a:ext cx="7772400" cy="0"/>
          </a:xfrm>
          <a:prstGeom prst="line">
            <a:avLst/>
          </a:prstGeom>
          <a:ln w="414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905120" y="3886200"/>
            <a:ext cx="5133960" cy="2781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447920" y="1600200"/>
            <a:ext cx="2743200" cy="22017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4343400" y="1676520"/>
            <a:ext cx="2819520" cy="2085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Tahoma"/>
              </a:rPr>
              <a:t>Polární zář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685800" y="1523880"/>
            <a:ext cx="7772400" cy="0"/>
          </a:xfrm>
          <a:prstGeom prst="line">
            <a:avLst/>
          </a:prstGeom>
          <a:ln w="414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38080" y="1600200"/>
            <a:ext cx="2438640" cy="1824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3352680" y="1600200"/>
            <a:ext cx="2438640" cy="18223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5867280" y="1600200"/>
            <a:ext cx="2438640" cy="18223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1295280" y="3505320"/>
            <a:ext cx="2133720" cy="28573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3505320" y="3505320"/>
            <a:ext cx="2133360" cy="28573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5715000" y="3505320"/>
            <a:ext cx="2133720" cy="28573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3200040"/>
            <a:ext cx="7925040" cy="335268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vznikají při srážkách nabitých částic od Slunce s atomy a molekulami v zemské atmosféř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červená - dusík, kyslík; zelená - dusík; modrá - vodí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běžně pozorovatelné z polárních oblastí, výjimečně i velmi jižně (zvýšená aktivita, narušené geomagnetické po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8"/>
          <a:stretch/>
        </p:blipFill>
        <p:spPr>
          <a:xfrm>
            <a:off x="86868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Tahoma"/>
              </a:rPr>
              <a:t>Mete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685800" y="1523880"/>
            <a:ext cx="7772400" cy="0"/>
          </a:xfrm>
          <a:prstGeom prst="line">
            <a:avLst/>
          </a:prstGeom>
          <a:ln w="414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85800" y="1676520"/>
            <a:ext cx="3333600" cy="22190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3505320" y="4038480"/>
            <a:ext cx="2047680" cy="23907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4800600" y="1676520"/>
            <a:ext cx="2971800" cy="23032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09480" y="3200400"/>
            <a:ext cx="7925040" cy="335268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srážka kosmického smetí s atmosférou - 80 - 200 km nad povrchem, zcela shoř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svítí ionizovaný tunel vzduchu, těleso se v drtivé většině případů zcela rozpadne (jinak meteor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Tahoma"/>
              </a:rPr>
              <a:t>Extrasolární planety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580920" y="1828440"/>
            <a:ext cx="4876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349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dnes známo 119 planet u 114 hvězd (13 systémů je vícenásobných) - </a:t>
            </a:r>
            <a:r>
              <a:rPr b="0" lang="en-GB" sz="1400" spc="-1" strike="noStrike">
                <a:solidFill>
                  <a:srgbClr val="dddddd"/>
                </a:solidFill>
                <a:latin typeface="Tahoma"/>
              </a:rPr>
              <a:t>21. 11.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první objevená - 51 Peg (199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statisticky nejvíce obří planety (Jupiter a větší) blízko centrální hvězdy- dáno metodami jejich hled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685800" y="1523880"/>
            <a:ext cx="7772400" cy="0"/>
          </a:xfrm>
          <a:prstGeom prst="line">
            <a:avLst/>
          </a:prstGeom>
          <a:ln w="414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819520" cy="2256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371600" y="533520"/>
            <a:ext cx="6086520" cy="6086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Tahoma"/>
              </a:rPr>
              <a:t>Extrasolární planety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685800" y="1523880"/>
            <a:ext cx="7772400" cy="0"/>
          </a:xfrm>
          <a:prstGeom prst="line">
            <a:avLst/>
          </a:prstGeom>
          <a:ln w="414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580920" y="1828440"/>
            <a:ext cx="4876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astrometrick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radiální rychlosti (nejčastější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zákryty centrálních hvěz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gravitační mikročočk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puls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přebytek IR záře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2819520" cy="563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685800" y="2590920"/>
            <a:ext cx="2819520" cy="2819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685800" y="5486400"/>
            <a:ext cx="2819520" cy="752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Tahoma"/>
              </a:rPr>
              <a:t>Gravitační kolaps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685800" y="1523880"/>
            <a:ext cx="7772400" cy="0"/>
          </a:xfrm>
          <a:prstGeom prst="line">
            <a:avLst/>
          </a:prstGeom>
          <a:ln w="414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rovnováha gravitační síly a gradientu tlaku naruš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Jeansovo kritérium M&gt;M</a:t>
            </a:r>
            <a:r>
              <a:rPr b="0" lang="en-GB" sz="2800" spc="-1" strike="noStrike" baseline="-25000">
                <a:solidFill>
                  <a:srgbClr val="dddddd"/>
                </a:solidFill>
                <a:latin typeface="Tahoma"/>
              </a:rPr>
              <a:t>J</a:t>
            </a: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 -&gt; zkolabu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Jeansova hmotnost: M</a:t>
            </a:r>
            <a:r>
              <a:rPr b="0" lang="en-GB" sz="2800" spc="-1" strike="noStrike" baseline="-25000">
                <a:solidFill>
                  <a:srgbClr val="dddddd"/>
                </a:solidFill>
                <a:latin typeface="Tahoma"/>
              </a:rPr>
              <a:t>J</a:t>
            </a: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=konst T</a:t>
            </a:r>
            <a:r>
              <a:rPr b="0" lang="en-GB" sz="2800" spc="-1" strike="noStrike" baseline="30000">
                <a:solidFill>
                  <a:srgbClr val="dddddd"/>
                </a:solidFill>
                <a:latin typeface="Tahoma"/>
              </a:rPr>
              <a:t>3/2</a:t>
            </a:r>
            <a:r>
              <a:rPr b="0" lang="en-GB" sz="2800" spc="-1" strike="noStrike">
                <a:solidFill>
                  <a:srgbClr val="dddddd"/>
                </a:solidFill>
                <a:latin typeface="Symbol"/>
                <a:ea typeface="Symbol"/>
              </a:rPr>
              <a:t></a:t>
            </a:r>
            <a:r>
              <a:rPr b="0" lang="en-GB" sz="2800" spc="-1" strike="noStrike" baseline="30000">
                <a:solidFill>
                  <a:srgbClr val="dddddd"/>
                </a:solidFill>
                <a:latin typeface="Tahoma"/>
              </a:rPr>
              <a:t>-1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pro n~10</a:t>
            </a:r>
            <a:r>
              <a:rPr b="0" lang="en-GB" sz="2800" spc="-1" strike="noStrike" baseline="30000">
                <a:solidFill>
                  <a:srgbClr val="dddddd"/>
                </a:solidFill>
                <a:latin typeface="Tahoma"/>
              </a:rPr>
              <a:t>6</a:t>
            </a: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 cm</a:t>
            </a:r>
            <a:r>
              <a:rPr b="0" lang="en-GB" sz="2800" spc="-1" strike="noStrike" baseline="30000">
                <a:solidFill>
                  <a:srgbClr val="dddddd"/>
                </a:solidFill>
                <a:latin typeface="Tahoma"/>
              </a:rPr>
              <a:t>-3</a:t>
            </a: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, T~50 K, M</a:t>
            </a:r>
            <a:r>
              <a:rPr b="0" lang="en-GB" sz="2800" spc="-1" strike="noStrike" baseline="-25000">
                <a:solidFill>
                  <a:srgbClr val="dddddd"/>
                </a:solidFill>
                <a:latin typeface="Tahoma"/>
              </a:rPr>
              <a:t>J</a:t>
            </a: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 ~ 10 M</a:t>
            </a:r>
            <a:r>
              <a:rPr b="0" lang="en-GB" sz="2800" spc="-1" strike="noStrike" baseline="-25000">
                <a:solidFill>
                  <a:srgbClr val="dddddd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Tahoma"/>
              </a:rPr>
              <a:t>Gravitační kolap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685800" y="1523880"/>
            <a:ext cx="7772400" cy="0"/>
          </a:xfrm>
          <a:prstGeom prst="line">
            <a:avLst/>
          </a:prstGeom>
          <a:ln w="414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velké oblaky M&gt;10</a:t>
            </a:r>
            <a:r>
              <a:rPr b="0" lang="en-GB" sz="2800" spc="-1" strike="noStrike" baseline="30000">
                <a:solidFill>
                  <a:srgbClr val="dddddd"/>
                </a:solidFill>
                <a:latin typeface="Tahoma"/>
              </a:rPr>
              <a:t>5</a:t>
            </a: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 M</a:t>
            </a:r>
            <a:r>
              <a:rPr b="0" lang="en-GB" sz="2800" spc="-1" strike="noStrike" baseline="-25000">
                <a:solidFill>
                  <a:srgbClr val="dddddd"/>
                </a:solidFill>
                <a:latin typeface="Tahoma"/>
              </a:rPr>
              <a:t>S</a:t>
            </a: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 - O-B asociace (intenzivní hvězdný vítr rozfoukává zbytky oblak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malé oblaky - otevřené hvězdoku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Tahoma"/>
              </a:rPr>
              <a:t>Zdroje energie hvězd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685800" y="1523880"/>
            <a:ext cx="7772400" cy="0"/>
          </a:xfrm>
          <a:prstGeom prst="line">
            <a:avLst/>
          </a:prstGeom>
          <a:ln w="414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chemické spal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pády těles do Slu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a další primitivní představ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Tahoma"/>
              </a:rPr>
              <a:t>Zdroje energie hvězd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85800" y="1523880"/>
            <a:ext cx="7772400" cy="0"/>
          </a:xfrm>
          <a:prstGeom prst="line">
            <a:avLst/>
          </a:prstGeom>
          <a:ln w="414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Helmholtzova kontrakce (1869) (Slunce by se mělo smršťovat asi o 1,5 metru za hodinu aby se udržel současný záživý výkon -&gt; nebylo by starší, než 20 mil. l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již brzy překoná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Tahoma"/>
              </a:rPr>
              <a:t>Zdroje energie hvězd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85800" y="1523880"/>
            <a:ext cx="7772400" cy="0"/>
          </a:xfrm>
          <a:prstGeom prst="line">
            <a:avLst/>
          </a:prstGeom>
          <a:ln w="414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1939 - zdrojem energie jsou termojaderné reakce - udělány i rychlé jednoduché modely, které potvrdily, že by to tak mohlo fungov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p-p cyklus (při 10</a:t>
            </a:r>
            <a:r>
              <a:rPr b="0" lang="en-GB" sz="2800" spc="-1" strike="noStrike" baseline="30000">
                <a:solidFill>
                  <a:srgbClr val="dddddd"/>
                </a:solidFill>
                <a:latin typeface="Tahoma"/>
              </a:rPr>
              <a:t>7</a:t>
            </a: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 K), CNO cyklus (při 10</a:t>
            </a:r>
            <a:r>
              <a:rPr b="0" lang="en-GB" sz="2800" spc="-1" strike="noStrike" baseline="30000">
                <a:solidFill>
                  <a:srgbClr val="dddddd"/>
                </a:solidFill>
                <a:latin typeface="Tahoma"/>
              </a:rPr>
              <a:t>9</a:t>
            </a: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 K), 3</a:t>
            </a:r>
            <a:r>
              <a:rPr b="0" lang="en-GB" sz="2800" spc="-1" strike="noStrike">
                <a:solidFill>
                  <a:srgbClr val="dddddd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 proces, ..., -&gt; 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200400" y="4191120"/>
            <a:ext cx="3048120" cy="2509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Tahoma"/>
              </a:rPr>
              <a:t>Proměnné hvěz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685800" y="1523880"/>
            <a:ext cx="7772400" cy="0"/>
          </a:xfrm>
          <a:prstGeom prst="line">
            <a:avLst/>
          </a:prstGeom>
          <a:ln w="414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geometrick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zákrytové (Algol, 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pulsující (cepheidy, miri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eruptivní (novy, supernovy, U Gem 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1T09:46:08Z</dcterms:created>
  <dc:creator>svanm9am</dc:creator>
  <dc:description/>
  <dc:language>en-US</dc:language>
  <cp:lastModifiedBy>svanm9am</cp:lastModifiedBy>
  <dcterms:modified xsi:type="dcterms:W3CDTF">2003-12-02T17:25:48Z</dcterms:modified>
  <cp:revision>40</cp:revision>
  <dc:subject/>
  <dc:title>No Slide Title</dc:title>
</cp:coreProperties>
</file>