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9052-D744-4A49-84C6-471EC843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4139-8F70-4190-976F-F4680574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D006-2CD2-4C28-BE1D-2AD0F953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5BBE-EA3E-43B4-9D0E-0374DB1E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7105-BBDB-40D2-AFAB-FB90AC7B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812-8DE4-4D25-AE01-F00AA9A8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BF3-24E0-40D2-AD85-929B962D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50AC-50DF-485A-BB91-C29270C7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B32-3373-4B80-A4A4-1457E70D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F926-5FB3-4BD0-BFF9-7F5BEADD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9000-9272-4AA9-8985-8582F253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926-C125-45B3-88EF-FA7DDB4C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D1EA-7FA5-4FE0-9CA9-7C21FDCEB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1600200"/>
            <a:ext cx="80773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ahoma"/>
              </a:rPr>
              <a:t>Astronomie a astrofyzi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(odlehčená verz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4419720"/>
            <a:ext cx="327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ichal 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Šv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svanda@asu.cas.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Hvězdy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6553080" cy="4484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6019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Herzsprungův-Russelův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Hvězdy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pektra - </a:t>
            </a:r>
            <a:r>
              <a:rPr b="1" lang="en-GB" sz="2800" spc="-1" strike="noStrike">
                <a:solidFill>
                  <a:srgbClr val="dddddd"/>
                </a:solidFill>
                <a:latin typeface="Tahoma"/>
              </a:rPr>
              <a:t>O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h, </a:t>
            </a:r>
            <a:r>
              <a:rPr b="1" lang="en-GB" sz="2800" spc="-1" strike="noStrike">
                <a:solidFill>
                  <a:srgbClr val="dddddd"/>
                </a:solidFill>
                <a:latin typeface="Tahoma"/>
              </a:rPr>
              <a:t>B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e </a:t>
            </a:r>
            <a:r>
              <a:rPr b="1" lang="en-GB" sz="2800" spc="-1" strike="noStrike">
                <a:solidFill>
                  <a:srgbClr val="dddddd"/>
                </a:solidFill>
                <a:latin typeface="Tahoma"/>
              </a:rPr>
              <a:t>A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dddddd"/>
                </a:solidFill>
                <a:latin typeface="Tahoma"/>
              </a:rPr>
              <a:t>F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ine </a:t>
            </a:r>
            <a:r>
              <a:rPr b="1" lang="en-GB" sz="2800" spc="-1" strike="noStrike">
                <a:solidFill>
                  <a:srgbClr val="dddddd"/>
                </a:solidFill>
                <a:latin typeface="Tahoma"/>
              </a:rPr>
              <a:t>G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irl </a:t>
            </a:r>
            <a:r>
              <a:rPr b="1" lang="en-GB" sz="2800" spc="-1" strike="noStrike">
                <a:solidFill>
                  <a:srgbClr val="dddddd"/>
                </a:solidFill>
                <a:latin typeface="Tahoma"/>
              </a:rPr>
              <a:t>K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iss </a:t>
            </a:r>
            <a:r>
              <a:rPr b="1" lang="en-GB" sz="2800" spc="-1" strike="noStrike">
                <a:solidFill>
                  <a:srgbClr val="dddddd"/>
                </a:solidFill>
                <a:latin typeface="Tahoma"/>
              </a:rPr>
              <a:t>M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odle povrchové teploty - absolutně černé těleso je dobrá aproxi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ze spektra přímo - hmotnost, magnetické pole, rotační rychlost, rychlost vzdalování, chemické složení, tepl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ze spektra nepřímo - stáří, svítivost, vzdále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905120" y="380880"/>
                <a:ext cx="556236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ν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hν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hν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90920" y="2936880"/>
            <a:ext cx="3962160" cy="3921120"/>
          </a:xfrm>
          <a:prstGeom prst="rect">
            <a:avLst/>
          </a:prstGeom>
          <a:ln w="25560">
            <a:solidFill>
              <a:srgbClr val="b2b2b2"/>
            </a:solidFill>
            <a:miter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Vznik a vývoj hvěz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vznik z plyno-prachové mlhoviny gravitačním kolaps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hlavní posloup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závěrečné stadium - podle hmotnosti (bílý trpaslík, neutronová hvězda, černá dí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novy (povrchová exploze) a supernovy (totální destruk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Objekty vzdáleného vesmír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267080" y="1828440"/>
            <a:ext cx="4191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otevřené hvězdoku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kulové hvězdoku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difúzní mlhov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lanetární mlhov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galax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1844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743200" y="2895480"/>
            <a:ext cx="1523880" cy="1479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62120" y="4419720"/>
            <a:ext cx="2819160" cy="2176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733920" y="4876920"/>
            <a:ext cx="1533240" cy="1881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5791320" y="4597560"/>
            <a:ext cx="2733480" cy="226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Vznik a vývoj vesmír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kosm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cca před 12 - 14 miliardami let - velký třesk </a:t>
            </a: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(3 minuty - tvorba prvních chemických prvků, 400 000 let průhledný (reliktní záření), před 10 mld let - první hvězdy a galax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vesmír se rozpíná (Hubblův zák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hodně temné hmoty - neví se jistě, co bude dá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zdá se, že málo - vesmír se bude navždy rozpínat (až vychlad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Co bude odpoled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jevy na obloze a ve vesmí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hvězdné soustavy a život ve vesmí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trochu matematiky a fyziky na pozadí astrofyziky (méně obrázk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oučasné problémy a dění v astronom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Co je astronomi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stronomie je věda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zkoumá vesmírný prostor a jevy v ně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ení možné si věci osahat -&gt; fikané met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ozorovací, teoretická, kosmologie, planetologie, mebeská mechanika, a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Sluneční soust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ůměr cca 1 ly (planety do 40 (30) A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lunce, devět (osm) planet, miliony - miliardy planetek ve dvou pásech, komety, spousta smet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98 % hmoty ve Slun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Slu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8092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Hvězda sp. třídy G2 (T=5700 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M=2×10</a:t>
            </a:r>
            <a:r>
              <a:rPr b="0" lang="en-GB" sz="2800" spc="-1" strike="noStrike" baseline="30000">
                <a:solidFill>
                  <a:srgbClr val="dddddd"/>
                </a:solidFill>
                <a:latin typeface="Tahoma"/>
              </a:rPr>
              <a:t>30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kg, R=695000 km, L=3×10</a:t>
            </a:r>
            <a:r>
              <a:rPr b="0" lang="en-GB" sz="2800" spc="-1" strike="noStrike" baseline="30000">
                <a:solidFill>
                  <a:srgbClr val="dddddd"/>
                </a:solidFill>
                <a:latin typeface="Tahoma"/>
              </a:rPr>
              <a:t>26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ložitá struktura (helioseismolog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luneční aktivita (11 l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luneční ví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2895480" cy="278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Kamenné (terestrické) plan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866880" cy="1619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28600" y="3657600"/>
            <a:ext cx="1619280" cy="1219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676520" y="2209680"/>
            <a:ext cx="1733400" cy="21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2971800" y="4572000"/>
          <a:ext cx="5943600" cy="1855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4572000"/>
                    <a:ext cx="594360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762120" y="472428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092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evný povrch, atmosféry, vysoké husto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jádro, plášť, ků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magnetické p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Plynné (obří) plan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092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nemají pevný povrch, převážně H, He, hodně měsíc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rstence, silná mg. p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5800" y="5486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752480" y="3429000"/>
            <a:ext cx="1619280" cy="109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52280" y="1828800"/>
            <a:ext cx="190512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895480" y="4572000"/>
          <a:ext cx="6096240" cy="1944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95480" y="4572000"/>
                    <a:ext cx="60962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ahoma"/>
              </a:rPr>
              <a:t>Plu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8092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největší objekt Edgeworth-Kuiperova pá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měsíc Cha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není vyloučeno, že se v E-K disku nachází větší těl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124080" cy="162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533520" y="4343400"/>
          <a:ext cx="7391160" cy="2293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343400"/>
                    <a:ext cx="739116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Meziplanetární sme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324480" y="2971800"/>
            <a:ext cx="2457720" cy="2857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57200" y="3200400"/>
            <a:ext cx="3695760" cy="2895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kom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lanetky (pás mezi Marsem a Jupiterem </a:t>
            </a: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(gravitační vliv Jupitera znemožnil formování další planety)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, E-K disk </a:t>
            </a: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(gravitačně zameteno plynnými planetami)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) - největší Ceres (980 km průmě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Oortův oblak (100 AU – cca do 1 ly) </a:t>
            </a: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(zřejmě vyfouknuto tlakem záření na poč. sluneční soustav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pousta prac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meteoroid/meteor/meteor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Hvězdy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lynné (plazmatické) ko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hmotnosti 0,02 - 120 M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Slunce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, rozměry 10 km - 1000 R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Slunce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, teploty 2500 °C - 100 000 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zdroj energie - gravitační kolaps (význam na začátku života), termonukleární reakce (p-p cyklus, CNO cykl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vzdálenost / svítivost -&gt; zdánlivá jas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09:46:08Z</dcterms:created>
  <dc:creator>svanm9am</dc:creator>
  <dc:description/>
  <dc:language>en-US</dc:language>
  <cp:lastModifiedBy>svanm9am</cp:lastModifiedBy>
  <dcterms:modified xsi:type="dcterms:W3CDTF">2003-12-02T17:25:19Z</dcterms:modified>
  <cp:revision>24</cp:revision>
  <dc:subject/>
  <dc:title>No Slide Title</dc:title>
</cp:coreProperties>
</file>